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E452-AB07-4A08-BBEC-88F374DE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58C8-C836-4D4E-AA48-36FA45B8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6D61-805B-4516-822B-333D2F6C2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7D55-CED9-471E-BA0D-8D6934C49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ADD1-92C8-4CC8-99F2-9EED5866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C473-B8AC-42FF-8521-4F733687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0810-5F03-46B9-8A2F-45C90213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096B-9C1E-4A4A-8C5D-02BB7C36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AFB2-B7C4-4398-814F-BC572BDD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BD39-6E71-49C3-AA54-44332AF4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BA74-C750-4985-96C1-1E478EC9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DB6B-157A-4C30-92D0-EDACC7E8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5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544B-75DB-4A09-9172-4A6FB1BD8D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ndefinite Articles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lural of Nou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What is an Indefinite Artic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he English Indefinite Articles 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, an, and So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n French, the indefinite articles a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2d050"/>
                </a:solidFill>
                <a:latin typeface="Calibri"/>
              </a:rPr>
              <a:t>Un, 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une</a:t>
            </a: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and </a:t>
            </a:r>
            <a:r>
              <a:rPr b="0" lang="fr-FR" sz="2800" spc="-1" strike="noStrike">
                <a:solidFill>
                  <a:srgbClr val="0070c0"/>
                </a:solidFill>
                <a:latin typeface="Calibri"/>
              </a:rPr>
              <a:t>des</a:t>
            </a: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asculine and Feminin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n French, unlike in English, there are nouns that are </a:t>
            </a:r>
            <a:r>
              <a:rPr b="0" lang="fr-FR" sz="3200" spc="-1" strike="noStrike">
                <a:solidFill>
                  <a:srgbClr val="0070c0"/>
                </a:solidFill>
                <a:latin typeface="Calibri"/>
              </a:rPr>
              <a:t>MASCULIN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nd nouns that are </a:t>
            </a:r>
            <a:r>
              <a:rPr b="0" lang="fr-FR" sz="3200" spc="-1" strike="noStrike">
                <a:solidFill>
                  <a:srgbClr val="b3a2c7"/>
                </a:solidFill>
                <a:latin typeface="Calibri"/>
              </a:rPr>
              <a:t>FEMIN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3a2c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b3a2c7"/>
                </a:solidFill>
                <a:latin typeface="Calibri"/>
              </a:rPr>
              <a:t>une fenêtre</a:t>
            </a:r>
            <a:r>
              <a:rPr b="0" lang="fr-FR" sz="2800" spc="-1" strike="noStrike">
                <a:solidFill>
                  <a:srgbClr val="b3a2c7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b3a2c7"/>
                </a:solidFill>
                <a:latin typeface="Calibri"/>
              </a:rPr>
              <a:t>une por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b0f0"/>
                </a:solidFill>
                <a:latin typeface="Calibri"/>
              </a:rPr>
              <a:t>un tableau</a:t>
            </a:r>
            <a:r>
              <a:rPr b="0" lang="fr-FR" sz="2800" spc="-1" strike="noStrike">
                <a:solidFill>
                  <a:srgbClr val="00b0f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b0f0"/>
                </a:solidFill>
                <a:latin typeface="Calibri"/>
              </a:rPr>
              <a:t>un burea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996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d99694"/>
                </a:solidFill>
                <a:latin typeface="Calibri"/>
              </a:rPr>
              <a:t>des fenêtres </a:t>
            </a:r>
            <a:r>
              <a:rPr b="0" lang="fr-FR" sz="2800" spc="-1" strike="noStrike">
                <a:solidFill>
                  <a:srgbClr val="d99694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d99694"/>
                </a:solidFill>
                <a:latin typeface="Calibri"/>
              </a:rPr>
              <a:t>des portes</a:t>
            </a:r>
            <a:r>
              <a:rPr b="0" lang="fr-FR" sz="2800" spc="-1" strike="noStrike">
                <a:solidFill>
                  <a:srgbClr val="d99694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d99694"/>
                </a:solidFill>
                <a:latin typeface="Calibri"/>
              </a:rPr>
              <a:t>des tableau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a2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Why, you may ask? Well, there’s no good answer except for it’s a part of their langua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With Numb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RREC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l y a deux fenêtres ; il y a trois tableau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NCORREC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l y a des deux fenêtres; il y a un trois tableau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f there aren’t any of an i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l n’y a pas de 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l n’y a pas de fenêt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l n’y a pas des fenêtr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aking Nouns Pl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ost of the time, you’ll just add an s like in Englis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e fenêtre </a:t>
            </a: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deux fenêt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 horloge </a:t>
            </a: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cinq horlog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ableau </a:t>
            </a: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deux tableauX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2T20:48:37Z</dcterms:created>
  <dc:creator>Robbie</dc:creator>
  <dc:description/>
  <dc:language>en-US</dc:language>
  <cp:lastModifiedBy>Robbie</cp:lastModifiedBy>
  <dcterms:modified xsi:type="dcterms:W3CDTF">2012-09-03T12:54:14Z</dcterms:modified>
  <cp:revision>1</cp:revision>
  <dc:subject/>
  <dc:title>Indefinite Articles  Plural of Nouns</dc:title>
</cp:coreProperties>
</file>